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097-3EB0-4BB3-A629-A2555FAE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3B7-8013-43E4-A129-E1BDFB8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6D-373C-4764-B0DF-B11B3273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FB2-C76D-400C-809E-A43F1E9B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B3D-47B1-4C8A-99CC-0B5DCFF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4B6-F7A2-40ED-AC9C-FBBC918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DAF-AF2C-4FE7-AC95-2BFC3DD9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940-725C-4F99-A19B-FEE0736B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B5-B0B1-44B8-8417-0D5309A7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6C1-3790-469E-8EF7-9D49374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800-F87E-4BB1-8687-C60CC9B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462-7513-49DB-B7C3-6BC4F272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B034-7612-433E-B1F7-5DDB5AF57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anking &amp; Consumer Sm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&amp; 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28600" y="1773000"/>
            <a:ext cx="861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esentation is designed to have you take a more detailed look at what influences your spending and the proper utilization of banking serv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be a more savvy consume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does media influence purchas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factors can influence a person's spending, however one of the most powerful is media. Billions of dollars are spent annually on the advertisement of goods and services and enticing cust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nt, radio and commercial sales techn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is a very profitable indus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ppealing in some ads and what is it about the ad that makes you want to spend mone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d name items vs. generic i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times youth are not interested in generic items because they are not recognized in media. Essentially, name brand items are only more expensive because of their marketing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5720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es media make wants seem like need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of some ads is to make a person think the product is "cool" and to create a sense of purchase-pressur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comparison shopp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realize that we cannot have all of our wants and we sometimes have to compromise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P: Compare prices in different flyers, cl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ons and try bargaining for prices and ser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son shopping is a great budget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que, and will also provide a consumer wi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o accommodate wants with sav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478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: Banks vs. Credit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vices offered at both banks and credit un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s, loans and money transf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ty of financial institu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, is safe and available. Money kept in banks and credit unions is insured up to $100,000 by the Federal Deposit Insurance Corporation (FDIC) and the National Credit Union Administration (NCUA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: Banks vs. Credit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95120" y="-133200"/>
            <a:ext cx="953604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y are checking accounts importa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various payment options that come from having a checking account: check, debit card and money order. Despite checks being used less in today‘s economy, it is important for you to know the proper way to write a check, as there are still circumstances when payment by check is requi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open a checking accou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s of opening a checking account: going to the bank and talking with a representative, filling out an application, giving proper ID, signing a Signature Verification Card and depositing an opening balance. Most formal financial institutions have youth accou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yment op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are pros and cons of each payment method: cash, check, debit card, credit card and money orders. Pros and cons include: safety, tracking ability, credit and transaction cos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 the next activity: Practice writing a proper check. See Checking out Checking Accounts Hand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8-03T02:51:35Z</dcterms:modified>
  <cp:revision>11</cp:revision>
  <dc:subject/>
  <dc:title>Road to Financial Maturity</dc:title>
</cp:coreProperties>
</file>